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A3F231-16A9-405E-984A-350D7809439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FE2558-FCB4-413D-AE1B-CB3D3F85F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40A4B4-7E62-4544-8128-77A0E31C6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7AF5A9-491C-4E60-BBC8-2A0833EAA10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764362-2B97-4E20-9C1A-1450E732B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C9855C-9671-4F4D-A1F1-E2BA36BEB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851F01-8B66-474E-A22B-9D355D7C8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CCDB02-3C0F-4BBC-A556-2CCD0D7DC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87F8E2-573F-4B2D-AD3A-6C14A182E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6CD30A-F8AB-4F0D-A8B7-8228F16BE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EE37FD-2494-4A5B-A551-BD0826E24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A4650A-F031-447D-9D21-2E38CC9D0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DCECC-22DD-4EAB-8BA8-B5CCFCF6B822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8.xml"/><Relationship Id="rId3" Type="http://schemas.openxmlformats.org/officeDocument/2006/relationships/slide" Target="slide10.xml"/><Relationship Id="rId4" Type="http://schemas.openxmlformats.org/officeDocument/2006/relationships/slide" Target="slide12.xml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050920" y="2276640"/>
            <a:ext cx="51818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二章  问诊</a:t>
            </a:r>
            <a:br>
              <a:rPr sz="4800"/>
            </a:b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26560" y="69192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现病史</a:t>
            </a:r>
            <a:br>
              <a:rPr sz="40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50920" y="170028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华文楷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起病情况与患病时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华文楷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病因与诱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华文楷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主要症状的特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华文楷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病情的发展与演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华文楷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伴随症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华文楷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诊断、治疗与护理经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" name="AutoShape 4"/>
          <p:cNvSpPr/>
          <p:nvPr/>
        </p:nvSpPr>
        <p:spPr>
          <a:xfrm>
            <a:off x="8748720" y="6524640"/>
            <a:ext cx="395280" cy="333360"/>
          </a:xfrm>
          <a:custGeom>
            <a:avLst/>
            <a:gdLst>
              <a:gd name="textAreaLeft" fmla="*/ 21600 w 395280"/>
              <a:gd name="textAreaRight" fmla="*/ 373680 w 39528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5608" h="21600">
                <a:moveTo>
                  <a:pt x="0" y="0"/>
                </a:moveTo>
                <a:lnTo>
                  <a:pt x="25608" y="0"/>
                </a:lnTo>
                <a:lnTo>
                  <a:pt x="25608" y="21600"/>
                </a:lnTo>
                <a:lnTo>
                  <a:pt x="0" y="21600"/>
                </a:lnTo>
                <a:close/>
              </a:path>
              <a:path fill="lightenLess" w="25608" h="21600">
                <a:moveTo>
                  <a:pt x="0" y="0"/>
                </a:moveTo>
                <a:lnTo>
                  <a:pt x="25608" y="0"/>
                </a:lnTo>
                <a:lnTo>
                  <a:pt x="24208" y="1400"/>
                </a:lnTo>
                <a:lnTo>
                  <a:pt x="1400" y="1400"/>
                </a:lnTo>
                <a:close/>
              </a:path>
              <a:path fill="darken" w="25608" h="21600">
                <a:moveTo>
                  <a:pt x="25608" y="0"/>
                </a:moveTo>
                <a:lnTo>
                  <a:pt x="25608" y="21600"/>
                </a:lnTo>
                <a:lnTo>
                  <a:pt x="24208" y="20200"/>
                </a:lnTo>
                <a:lnTo>
                  <a:pt x="24208" y="1400"/>
                </a:lnTo>
                <a:close/>
              </a:path>
              <a:path fill="darkenLess" w="25608" h="21600">
                <a:moveTo>
                  <a:pt x="256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208" y="20200"/>
                </a:lnTo>
                <a:close/>
              </a:path>
              <a:path fill="lighten" w="256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608" h="21600">
                <a:moveTo>
                  <a:pt x="5797" y="10800"/>
                </a:moveTo>
                <a:lnTo>
                  <a:pt x="19810" y="3794"/>
                </a:lnTo>
                <a:lnTo>
                  <a:pt x="19810" y="17806"/>
                </a:lnTo>
                <a:close/>
              </a:path>
            </a:pathLst>
          </a:custGeom>
          <a:solidFill>
            <a:srgbClr val="979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主要症状的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询问主要症状的要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部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性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时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程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加重或减轻的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48320" y="1628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以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前突发腹痛为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中上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阵发性绞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钟左右发作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在床上翻来翻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无法缓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AutoShape 6"/>
          <p:cNvSpPr/>
          <p:nvPr/>
        </p:nvSpPr>
        <p:spPr>
          <a:xfrm>
            <a:off x="8748720" y="6524640"/>
            <a:ext cx="395280" cy="333360"/>
          </a:xfrm>
          <a:custGeom>
            <a:avLst/>
            <a:gdLst>
              <a:gd name="textAreaLeft" fmla="*/ 21600 w 395280"/>
              <a:gd name="textAreaRight" fmla="*/ 373680 w 39528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5608" h="21600">
                <a:moveTo>
                  <a:pt x="0" y="0"/>
                </a:moveTo>
                <a:lnTo>
                  <a:pt x="25608" y="0"/>
                </a:lnTo>
                <a:lnTo>
                  <a:pt x="25608" y="21600"/>
                </a:lnTo>
                <a:lnTo>
                  <a:pt x="0" y="21600"/>
                </a:lnTo>
                <a:close/>
              </a:path>
              <a:path fill="lightenLess" w="25608" h="21600">
                <a:moveTo>
                  <a:pt x="0" y="0"/>
                </a:moveTo>
                <a:lnTo>
                  <a:pt x="25608" y="0"/>
                </a:lnTo>
                <a:lnTo>
                  <a:pt x="24208" y="1400"/>
                </a:lnTo>
                <a:lnTo>
                  <a:pt x="1400" y="1400"/>
                </a:lnTo>
                <a:close/>
              </a:path>
              <a:path fill="darken" w="25608" h="21600">
                <a:moveTo>
                  <a:pt x="25608" y="0"/>
                </a:moveTo>
                <a:lnTo>
                  <a:pt x="25608" y="21600"/>
                </a:lnTo>
                <a:lnTo>
                  <a:pt x="24208" y="20200"/>
                </a:lnTo>
                <a:lnTo>
                  <a:pt x="24208" y="1400"/>
                </a:lnTo>
                <a:close/>
              </a:path>
              <a:path fill="darkenLess" w="25608" h="21600">
                <a:moveTo>
                  <a:pt x="256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208" y="20200"/>
                </a:lnTo>
                <a:close/>
              </a:path>
              <a:path fill="lighten" w="256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608" h="21600">
                <a:moveTo>
                  <a:pt x="5797" y="10800"/>
                </a:moveTo>
                <a:lnTo>
                  <a:pt x="19810" y="3794"/>
                </a:lnTo>
                <a:lnTo>
                  <a:pt x="19810" y="17806"/>
                </a:lnTo>
                <a:close/>
              </a:path>
            </a:pathLst>
          </a:custGeom>
          <a:solidFill>
            <a:srgbClr val="979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功能性健康型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由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Gordo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提出，共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涉及身体功能、生理、心理、社会健康等各个层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以此作为收集护理病史的框架具有重要理论和实践意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健康感知与健康管理型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3352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涉及个体的健康观念与如何管理自己的健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58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健康感知：自觉健康状况如何？对健康的认识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056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危险因素：遗传？生活方式？环境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258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健康行为：维护健康行为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58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自检意识和能力水平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056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常规健康检查和预防接种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056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遵医行为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营养与代谢型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涉及个体食物和液体的摄入与利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58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宋体"/>
                <a:ea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营养：食欲？日常饮食情况？饮食限制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58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营养相关疾病？经济？备餐与进食能力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58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近期体重变化？程度及原因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58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液体平衡：日常饮水情况？限制？疾病？药物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58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组织完整性：皮肤、黏膜损害？原因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58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体温：体温？影响体温的环境因素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排泄型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主要涉及排便和排尿的功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宋体"/>
                <a:ea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排便：每日排便时间、次数、量、颜色、性状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改变？类型？诱发或影响因素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药物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排尿：每日排尿时间、次数、量、颜色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改变？类型？诱发或影响因素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药物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活动与运动型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主要涉及个体日常生活活动、休闲娱乐以及锻炼的方式及其与之相关的活动能力、活动耐力与日常生活自理能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000"/>
                </a:solidFill>
                <a:latin typeface="宋体"/>
                <a:ea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活动与运动形式：日常生活活动、锻炼、娱乐？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自理能力：进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饮水、沐浴、穿衣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洗漱、如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床上活动、转位、走动、上下楼、购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物、烹饪、理家？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轮椅？义肢？医疗或疾病限制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活动耐力：活动后疲乏、心悸、气急、头昏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影响因素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睡眠与休息型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000"/>
              </a:lnSpc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主要涉及个体睡眠、休息和放松的模式，包括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小时睡眠与休息的质与量、白天精力是否充沛，以及促进睡眠的辅助手段的使用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睡眠型态：睡眠时数、入睡与觉醒时间、夜间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转次数？原因？白天小睡的时间和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式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睡眠质量：休息后精力充沛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睡眠异常：类型？原因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辅助睡眠：药物？其他方式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认知与感知型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000"/>
              </a:lnSpc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涉及机体神经系统的感知功能与脑的认知功能，前者主要包括视觉、听觉、味觉、嗅觉、触觉和痛觉，后者主要包括思维能力、语言能力、定向力与意识状态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感知：疼痛？部位、性质、程度、持续时间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听力？视力？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认知：思维能力：记忆？推理？判断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语言能力：失语？构音障碍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定向力：定向障碍？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意识状态：意识清晰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自我概念型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涉及个体对自己的个性特征、社会角色和身体特征的认识与评价，并受价值观、信念、人际关系、文化、他人对个体的评价的影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宋体"/>
                <a:ea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如何看待自己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自我感觉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情绪？相关因素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92000" y="1915920"/>
            <a:ext cx="396108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问诊的目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问诊的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问诊的方法和技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特殊情况的问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7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8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9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1" name="Text Box 8"/>
          <p:cNvSpPr/>
          <p:nvPr/>
        </p:nvSpPr>
        <p:spPr>
          <a:xfrm>
            <a:off x="1991160" y="2276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4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15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6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8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AutoShape 16"/>
          <p:cNvSpPr/>
          <p:nvPr/>
        </p:nvSpPr>
        <p:spPr>
          <a:xfrm>
            <a:off x="1803240" y="451152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 Box 17"/>
          <p:cNvSpPr/>
          <p:nvPr/>
        </p:nvSpPr>
        <p:spPr>
          <a:xfrm>
            <a:off x="1973880" y="456876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Line 21"/>
          <p:cNvSpPr/>
          <p:nvPr/>
        </p:nvSpPr>
        <p:spPr>
          <a:xfrm>
            <a:off x="2484360" y="5084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角色与关系型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50920" y="112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997"/>
              </a:lnSpc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涉及个体在生活中的角色及与他人关系的性质，包括个体对其家庭、工作和社会角色感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9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就业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ts val="49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角色适应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ts val="49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家庭结构与功能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ts val="49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与他人交往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ts val="49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家庭对病人患病或住院的看法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ts val="49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经济收入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性与生殖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主要涉及个体的性别认同、性角色行为、性功能和生育能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性功能：性生活满意？改变？障碍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生育：女性月经史、生育史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压力与压力应对型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涉及个体对压力的感知与处理，包括个体对压力的适宜或不适宜的反应、对压力的认知与评价及其应对方式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压力源：近期生活中重大事件？危机？困扰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应对方式：处理生活中重大问题？成功？帮助最大者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价值与信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涉及个体的文化和精神世界，主要包括价值观、健康信念、人生观和宗教信仰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健康信念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民间验方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宗教信仰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2" name="AutoShape 4"/>
          <p:cNvSpPr/>
          <p:nvPr/>
        </p:nvSpPr>
        <p:spPr>
          <a:xfrm>
            <a:off x="8748720" y="6524640"/>
            <a:ext cx="395280" cy="333360"/>
          </a:xfrm>
          <a:custGeom>
            <a:avLst/>
            <a:gdLst>
              <a:gd name="textAreaLeft" fmla="*/ 21600 w 395280"/>
              <a:gd name="textAreaRight" fmla="*/ 373680 w 39528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5608" h="21600">
                <a:moveTo>
                  <a:pt x="0" y="0"/>
                </a:moveTo>
                <a:lnTo>
                  <a:pt x="25608" y="0"/>
                </a:lnTo>
                <a:lnTo>
                  <a:pt x="25608" y="21600"/>
                </a:lnTo>
                <a:lnTo>
                  <a:pt x="0" y="21600"/>
                </a:lnTo>
                <a:close/>
              </a:path>
              <a:path fill="lightenLess" w="25608" h="21600">
                <a:moveTo>
                  <a:pt x="0" y="0"/>
                </a:moveTo>
                <a:lnTo>
                  <a:pt x="25608" y="0"/>
                </a:lnTo>
                <a:lnTo>
                  <a:pt x="24208" y="1400"/>
                </a:lnTo>
                <a:lnTo>
                  <a:pt x="1400" y="1400"/>
                </a:lnTo>
                <a:close/>
              </a:path>
              <a:path fill="darken" w="25608" h="21600">
                <a:moveTo>
                  <a:pt x="25608" y="0"/>
                </a:moveTo>
                <a:lnTo>
                  <a:pt x="25608" y="21600"/>
                </a:lnTo>
                <a:lnTo>
                  <a:pt x="24208" y="20200"/>
                </a:lnTo>
                <a:lnTo>
                  <a:pt x="24208" y="1400"/>
                </a:lnTo>
                <a:close/>
              </a:path>
              <a:path fill="darkenLess" w="25608" h="21600">
                <a:moveTo>
                  <a:pt x="256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208" y="20200"/>
                </a:lnTo>
                <a:close/>
              </a:path>
              <a:path fill="lighten" w="256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608" h="21600">
                <a:moveTo>
                  <a:pt x="5797" y="10800"/>
                </a:moveTo>
                <a:lnTo>
                  <a:pt x="19810" y="3794"/>
                </a:lnTo>
                <a:lnTo>
                  <a:pt x="19810" y="17806"/>
                </a:lnTo>
                <a:close/>
              </a:path>
            </a:pathLst>
          </a:custGeom>
          <a:solidFill>
            <a:srgbClr val="979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问诊的方法与技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环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自我介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问诊技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态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结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环境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舒适、安静、私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宽松和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7" name="AutoShape 4"/>
          <p:cNvSpPr/>
          <p:nvPr/>
        </p:nvSpPr>
        <p:spPr>
          <a:xfrm>
            <a:off x="8748720" y="6524640"/>
            <a:ext cx="395280" cy="333360"/>
          </a:xfrm>
          <a:custGeom>
            <a:avLst/>
            <a:gdLst>
              <a:gd name="textAreaLeft" fmla="*/ 21600 w 395280"/>
              <a:gd name="textAreaRight" fmla="*/ 373680 w 39528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5608" h="21600">
                <a:moveTo>
                  <a:pt x="0" y="0"/>
                </a:moveTo>
                <a:lnTo>
                  <a:pt x="25608" y="0"/>
                </a:lnTo>
                <a:lnTo>
                  <a:pt x="25608" y="21600"/>
                </a:lnTo>
                <a:lnTo>
                  <a:pt x="0" y="21600"/>
                </a:lnTo>
                <a:close/>
              </a:path>
              <a:path fill="lightenLess" w="25608" h="21600">
                <a:moveTo>
                  <a:pt x="0" y="0"/>
                </a:moveTo>
                <a:lnTo>
                  <a:pt x="25608" y="0"/>
                </a:lnTo>
                <a:lnTo>
                  <a:pt x="24208" y="1400"/>
                </a:lnTo>
                <a:lnTo>
                  <a:pt x="1400" y="1400"/>
                </a:lnTo>
                <a:close/>
              </a:path>
              <a:path fill="darken" w="25608" h="21600">
                <a:moveTo>
                  <a:pt x="25608" y="0"/>
                </a:moveTo>
                <a:lnTo>
                  <a:pt x="25608" y="21600"/>
                </a:lnTo>
                <a:lnTo>
                  <a:pt x="24208" y="20200"/>
                </a:lnTo>
                <a:lnTo>
                  <a:pt x="24208" y="1400"/>
                </a:lnTo>
                <a:close/>
              </a:path>
              <a:path fill="darkenLess" w="25608" h="21600">
                <a:moveTo>
                  <a:pt x="256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208" y="20200"/>
                </a:lnTo>
                <a:close/>
              </a:path>
              <a:path fill="lighten" w="256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608" h="21600">
                <a:moveTo>
                  <a:pt x="5797" y="10800"/>
                </a:moveTo>
                <a:lnTo>
                  <a:pt x="19810" y="3794"/>
                </a:lnTo>
                <a:lnTo>
                  <a:pt x="19810" y="17806"/>
                </a:lnTo>
                <a:close/>
              </a:path>
            </a:pathLst>
          </a:custGeom>
          <a:solidFill>
            <a:srgbClr val="979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自我介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将自己介绍给患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说明问诊目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保密承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0" name="AutoShape 4"/>
          <p:cNvSpPr/>
          <p:nvPr/>
        </p:nvSpPr>
        <p:spPr>
          <a:xfrm>
            <a:off x="8748720" y="6524640"/>
            <a:ext cx="395280" cy="333360"/>
          </a:xfrm>
          <a:custGeom>
            <a:avLst/>
            <a:gdLst>
              <a:gd name="textAreaLeft" fmla="*/ 21600 w 395280"/>
              <a:gd name="textAreaRight" fmla="*/ 373680 w 39528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5608" h="21600">
                <a:moveTo>
                  <a:pt x="0" y="0"/>
                </a:moveTo>
                <a:lnTo>
                  <a:pt x="25608" y="0"/>
                </a:lnTo>
                <a:lnTo>
                  <a:pt x="25608" y="21600"/>
                </a:lnTo>
                <a:lnTo>
                  <a:pt x="0" y="21600"/>
                </a:lnTo>
                <a:close/>
              </a:path>
              <a:path fill="lightenLess" w="25608" h="21600">
                <a:moveTo>
                  <a:pt x="0" y="0"/>
                </a:moveTo>
                <a:lnTo>
                  <a:pt x="25608" y="0"/>
                </a:lnTo>
                <a:lnTo>
                  <a:pt x="24208" y="1400"/>
                </a:lnTo>
                <a:lnTo>
                  <a:pt x="1400" y="1400"/>
                </a:lnTo>
                <a:close/>
              </a:path>
              <a:path fill="darken" w="25608" h="21600">
                <a:moveTo>
                  <a:pt x="25608" y="0"/>
                </a:moveTo>
                <a:lnTo>
                  <a:pt x="25608" y="21600"/>
                </a:lnTo>
                <a:lnTo>
                  <a:pt x="24208" y="20200"/>
                </a:lnTo>
                <a:lnTo>
                  <a:pt x="24208" y="1400"/>
                </a:lnTo>
                <a:close/>
              </a:path>
              <a:path fill="darkenLess" w="25608" h="21600">
                <a:moveTo>
                  <a:pt x="256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208" y="20200"/>
                </a:lnTo>
                <a:close/>
              </a:path>
              <a:path fill="lighten" w="256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608" h="21600">
                <a:moveTo>
                  <a:pt x="5797" y="10800"/>
                </a:moveTo>
                <a:lnTo>
                  <a:pt x="19810" y="3794"/>
                </a:lnTo>
                <a:lnTo>
                  <a:pt x="19810" y="17806"/>
                </a:lnTo>
                <a:close/>
              </a:path>
            </a:pathLst>
          </a:custGeom>
          <a:solidFill>
            <a:srgbClr val="979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问诊的技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ts val="4000"/>
              </a:lnSpc>
              <a:buClr>
                <a:srgbClr val="ddb523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般从主诉开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ts val="4000"/>
              </a:lnSpc>
              <a:buClr>
                <a:srgbClr val="ddb523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提问方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开始：易于回答的开放性问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获取具体信息：直接提问；避免暗示和医学术语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患者表达差：多项备选答案的问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患者表达不确切：耐心启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离题太远时：客气地引导到病史线索上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514440" indent="-514440">
              <a:lnSpc>
                <a:spcPts val="4000"/>
              </a:lnSpc>
              <a:buClr>
                <a:srgbClr val="ddb523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核实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澄清、复述、反问、质疑、解析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3" name="AutoShape 4"/>
          <p:cNvSpPr/>
          <p:nvPr/>
        </p:nvSpPr>
        <p:spPr>
          <a:xfrm>
            <a:off x="8748720" y="6524640"/>
            <a:ext cx="395280" cy="333360"/>
          </a:xfrm>
          <a:custGeom>
            <a:avLst/>
            <a:gdLst>
              <a:gd name="textAreaLeft" fmla="*/ 21600 w 395280"/>
              <a:gd name="textAreaRight" fmla="*/ 373680 w 39528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5608" h="21600">
                <a:moveTo>
                  <a:pt x="0" y="0"/>
                </a:moveTo>
                <a:lnTo>
                  <a:pt x="25608" y="0"/>
                </a:lnTo>
                <a:lnTo>
                  <a:pt x="25608" y="21600"/>
                </a:lnTo>
                <a:lnTo>
                  <a:pt x="0" y="21600"/>
                </a:lnTo>
                <a:close/>
              </a:path>
              <a:path fill="lightenLess" w="25608" h="21600">
                <a:moveTo>
                  <a:pt x="0" y="0"/>
                </a:moveTo>
                <a:lnTo>
                  <a:pt x="25608" y="0"/>
                </a:lnTo>
                <a:lnTo>
                  <a:pt x="24208" y="1400"/>
                </a:lnTo>
                <a:lnTo>
                  <a:pt x="1400" y="1400"/>
                </a:lnTo>
                <a:close/>
              </a:path>
              <a:path fill="darken" w="25608" h="21600">
                <a:moveTo>
                  <a:pt x="25608" y="0"/>
                </a:moveTo>
                <a:lnTo>
                  <a:pt x="25608" y="21600"/>
                </a:lnTo>
                <a:lnTo>
                  <a:pt x="24208" y="20200"/>
                </a:lnTo>
                <a:lnTo>
                  <a:pt x="24208" y="1400"/>
                </a:lnTo>
                <a:close/>
              </a:path>
              <a:path fill="darkenLess" w="25608" h="21600">
                <a:moveTo>
                  <a:pt x="256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208" y="20200"/>
                </a:lnTo>
                <a:close/>
              </a:path>
              <a:path fill="lighten" w="256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608" h="21600">
                <a:moveTo>
                  <a:pt x="5797" y="10800"/>
                </a:moveTo>
                <a:lnTo>
                  <a:pt x="19810" y="3794"/>
                </a:lnTo>
                <a:lnTo>
                  <a:pt x="19810" y="17806"/>
                </a:lnTo>
                <a:close/>
              </a:path>
            </a:pathLst>
          </a:custGeom>
          <a:solidFill>
            <a:srgbClr val="979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态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对患者的陈述表示理解、认可和同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不可采用质问性语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非语言沟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86" name="Picture 4" descr=""/>
          <p:cNvPicPr/>
          <p:nvPr/>
        </p:nvPicPr>
        <p:blipFill>
          <a:blip r:embed="rId1"/>
          <a:srcRect l="1488" t="1431" r="0" b="0"/>
          <a:stretch/>
        </p:blipFill>
        <p:spPr>
          <a:xfrm>
            <a:off x="4500720" y="3429000"/>
            <a:ext cx="3671640" cy="2451240"/>
          </a:xfrm>
          <a:prstGeom prst="rect">
            <a:avLst/>
          </a:prstGeom>
          <a:ln w="0">
            <a:noFill/>
          </a:ln>
        </p:spPr>
      </p:pic>
      <p:sp>
        <p:nvSpPr>
          <p:cNvPr id="187" name="AutoShape 5"/>
          <p:cNvSpPr/>
          <p:nvPr/>
        </p:nvSpPr>
        <p:spPr>
          <a:xfrm>
            <a:off x="8748720" y="6524640"/>
            <a:ext cx="395280" cy="333360"/>
          </a:xfrm>
          <a:custGeom>
            <a:avLst/>
            <a:gdLst>
              <a:gd name="textAreaLeft" fmla="*/ 21600 w 395280"/>
              <a:gd name="textAreaRight" fmla="*/ 373680 w 39528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5608" h="21600">
                <a:moveTo>
                  <a:pt x="0" y="0"/>
                </a:moveTo>
                <a:lnTo>
                  <a:pt x="25608" y="0"/>
                </a:lnTo>
                <a:lnTo>
                  <a:pt x="25608" y="21600"/>
                </a:lnTo>
                <a:lnTo>
                  <a:pt x="0" y="21600"/>
                </a:lnTo>
                <a:close/>
              </a:path>
              <a:path fill="lightenLess" w="25608" h="21600">
                <a:moveTo>
                  <a:pt x="0" y="0"/>
                </a:moveTo>
                <a:lnTo>
                  <a:pt x="25608" y="0"/>
                </a:lnTo>
                <a:lnTo>
                  <a:pt x="24208" y="1400"/>
                </a:lnTo>
                <a:lnTo>
                  <a:pt x="1400" y="1400"/>
                </a:lnTo>
                <a:close/>
              </a:path>
              <a:path fill="darken" w="25608" h="21600">
                <a:moveTo>
                  <a:pt x="25608" y="0"/>
                </a:moveTo>
                <a:lnTo>
                  <a:pt x="25608" y="21600"/>
                </a:lnTo>
                <a:lnTo>
                  <a:pt x="24208" y="20200"/>
                </a:lnTo>
                <a:lnTo>
                  <a:pt x="24208" y="1400"/>
                </a:lnTo>
                <a:close/>
              </a:path>
              <a:path fill="darkenLess" w="25608" h="21600">
                <a:moveTo>
                  <a:pt x="256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208" y="20200"/>
                </a:lnTo>
                <a:close/>
              </a:path>
              <a:path fill="lighten" w="256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608" h="21600">
                <a:moveTo>
                  <a:pt x="5797" y="10800"/>
                </a:moveTo>
                <a:lnTo>
                  <a:pt x="19810" y="3794"/>
                </a:lnTo>
                <a:lnTo>
                  <a:pt x="19810" y="17806"/>
                </a:lnTo>
                <a:close/>
              </a:path>
            </a:pathLst>
          </a:custGeom>
          <a:solidFill>
            <a:srgbClr val="979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0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0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特殊情况的问诊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不同文化背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认知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愤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焦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抑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老年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儿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病情危重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临终患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26560" y="549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250920" y="1125000"/>
            <a:ext cx="8610480" cy="522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识记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描述问诊的方法与技巧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复述问诊的主要内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理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说明问诊的目的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解释问诊的方法与技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根据不同的问诊对象恰当地运用问诊的方法和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巧进行健康史的采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自测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24000" y="112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、选择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5800" indent="-3258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通过问诊获得的资料为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5800" indent="-3258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主观资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5800" indent="-3258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客观资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5800" indent="-3258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真实资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5800" indent="-3258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参考资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5800" indent="-3258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E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般资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32400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问诊一般从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开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现病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主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既往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婚姻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E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家族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自测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二、填空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问诊是发生在护士与患者或相关人员之间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交谈过程，是病史采集的主要手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主诉为患者感觉最主要、最明显的症状或体征及其性质和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或患者此次就诊的主要原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自测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三、名词解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现病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四、简答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现病史包括哪些内容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自测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问诊的目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250920" y="1915920"/>
            <a:ext cx="8610480" cy="306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定义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问诊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inquiry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是发生在护士与患者或相关人员之间目标明确而有序的交谈过程，是病史采集的主要手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目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f4f76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临床判断和诊断性推理提供基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f4f76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体格检查的重点提供线索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f4f76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护患间建立积极的治疗性关系提供机会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问诊的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23640" y="1699920"/>
            <a:ext cx="8010360" cy="40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1" action="ppaction://hlinksldjump"/>
              </a:rPr>
              <a:t>一般资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2" action="ppaction://hlinksldjump"/>
              </a:rPr>
              <a:t>主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3" action="ppaction://hlinksldjump"/>
              </a:rPr>
              <a:t>现病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4" action="ppaction://hlinksldjump"/>
              </a:rPr>
              <a:t>功能性健康型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6320" y="62064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一般资料  </a:t>
            </a:r>
            <a:br>
              <a:rPr sz="40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姓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性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年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职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婚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民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籍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48320" y="1628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文化程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医疗费用支付形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住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入院日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入院诊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资料收集日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资料来源及可靠程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" name="AutoShape 6"/>
          <p:cNvSpPr/>
          <p:nvPr/>
        </p:nvSpPr>
        <p:spPr>
          <a:xfrm>
            <a:off x="8748720" y="6524640"/>
            <a:ext cx="395280" cy="333360"/>
          </a:xfrm>
          <a:custGeom>
            <a:avLst/>
            <a:gdLst>
              <a:gd name="textAreaLeft" fmla="*/ 21600 w 395280"/>
              <a:gd name="textAreaRight" fmla="*/ 373680 w 39528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5608" h="21600">
                <a:moveTo>
                  <a:pt x="0" y="0"/>
                </a:moveTo>
                <a:lnTo>
                  <a:pt x="25608" y="0"/>
                </a:lnTo>
                <a:lnTo>
                  <a:pt x="25608" y="21600"/>
                </a:lnTo>
                <a:lnTo>
                  <a:pt x="0" y="21600"/>
                </a:lnTo>
                <a:close/>
              </a:path>
              <a:path fill="lightenLess" w="25608" h="21600">
                <a:moveTo>
                  <a:pt x="0" y="0"/>
                </a:moveTo>
                <a:lnTo>
                  <a:pt x="25608" y="0"/>
                </a:lnTo>
                <a:lnTo>
                  <a:pt x="24208" y="1400"/>
                </a:lnTo>
                <a:lnTo>
                  <a:pt x="1400" y="1400"/>
                </a:lnTo>
                <a:close/>
              </a:path>
              <a:path fill="darken" w="25608" h="21600">
                <a:moveTo>
                  <a:pt x="25608" y="0"/>
                </a:moveTo>
                <a:lnTo>
                  <a:pt x="25608" y="21600"/>
                </a:lnTo>
                <a:lnTo>
                  <a:pt x="24208" y="20200"/>
                </a:lnTo>
                <a:lnTo>
                  <a:pt x="24208" y="1400"/>
                </a:lnTo>
                <a:close/>
              </a:path>
              <a:path fill="darkenLess" w="25608" h="21600">
                <a:moveTo>
                  <a:pt x="256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208" y="20200"/>
                </a:lnTo>
                <a:close/>
              </a:path>
              <a:path fill="lighten" w="256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608" h="21600">
                <a:moveTo>
                  <a:pt x="5797" y="10800"/>
                </a:moveTo>
                <a:lnTo>
                  <a:pt x="19810" y="3794"/>
                </a:lnTo>
                <a:lnTo>
                  <a:pt x="19810" y="17806"/>
                </a:lnTo>
                <a:close/>
              </a:path>
            </a:pathLst>
          </a:custGeom>
          <a:solidFill>
            <a:srgbClr val="979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1440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主诉</a:t>
            </a:r>
            <a:r>
              <a:rPr b="0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患者感觉最主要或最明显的症状或体征，或本次就诊最主要的原因及持续的时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记录主诉的要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简明扼要，高度概括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明从健康问题发生到就诊的时间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用患者自己的语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练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最近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月以来我一直感到口很干，水喝得很多，尿也多，胃口特别好，原来每餐吃一小碗，现在要一大碗，但人却越来越瘦，上班挤公交车的力气都没有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宋体"/>
                <a:ea typeface="宋体"/>
              </a:rPr>
              <a:t>多饮、多尿、多食伴乏力、消瘦</a:t>
            </a:r>
            <a:r>
              <a:rPr b="1" lang="en-US" sz="2800" spc="-1" strike="noStrike">
                <a:solidFill>
                  <a:srgbClr val="ff006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ff0066"/>
                </a:solidFill>
                <a:latin typeface="宋体"/>
                <a:ea typeface="宋体"/>
              </a:rPr>
              <a:t>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AutoShape 4"/>
          <p:cNvSpPr/>
          <p:nvPr/>
        </p:nvSpPr>
        <p:spPr>
          <a:xfrm>
            <a:off x="8748720" y="6524640"/>
            <a:ext cx="395280" cy="333360"/>
          </a:xfrm>
          <a:custGeom>
            <a:avLst/>
            <a:gdLst>
              <a:gd name="textAreaLeft" fmla="*/ 21600 w 395280"/>
              <a:gd name="textAreaRight" fmla="*/ 373680 w 39528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5608" h="21600">
                <a:moveTo>
                  <a:pt x="0" y="0"/>
                </a:moveTo>
                <a:lnTo>
                  <a:pt x="25608" y="0"/>
                </a:lnTo>
                <a:lnTo>
                  <a:pt x="25608" y="21600"/>
                </a:lnTo>
                <a:lnTo>
                  <a:pt x="0" y="21600"/>
                </a:lnTo>
                <a:close/>
              </a:path>
              <a:path fill="lightenLess" w="25608" h="21600">
                <a:moveTo>
                  <a:pt x="0" y="0"/>
                </a:moveTo>
                <a:lnTo>
                  <a:pt x="25608" y="0"/>
                </a:lnTo>
                <a:lnTo>
                  <a:pt x="24208" y="1400"/>
                </a:lnTo>
                <a:lnTo>
                  <a:pt x="1400" y="1400"/>
                </a:lnTo>
                <a:close/>
              </a:path>
              <a:path fill="darken" w="25608" h="21600">
                <a:moveTo>
                  <a:pt x="25608" y="0"/>
                </a:moveTo>
                <a:lnTo>
                  <a:pt x="25608" y="21600"/>
                </a:lnTo>
                <a:lnTo>
                  <a:pt x="24208" y="20200"/>
                </a:lnTo>
                <a:lnTo>
                  <a:pt x="24208" y="1400"/>
                </a:lnTo>
                <a:close/>
              </a:path>
              <a:path fill="darkenLess" w="25608" h="21600">
                <a:moveTo>
                  <a:pt x="256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208" y="20200"/>
                </a:lnTo>
                <a:close/>
              </a:path>
              <a:path fill="lighten" w="256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608" h="21600">
                <a:moveTo>
                  <a:pt x="5797" y="10800"/>
                </a:moveTo>
                <a:lnTo>
                  <a:pt x="19810" y="3794"/>
                </a:lnTo>
                <a:lnTo>
                  <a:pt x="19810" y="17806"/>
                </a:lnTo>
                <a:close/>
              </a:path>
            </a:pathLst>
          </a:custGeom>
          <a:solidFill>
            <a:srgbClr val="979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6T06:46:44Z</dcterms:modified>
  <cp:revision>133</cp:revision>
  <dc:subject/>
  <dc:title>内科护理学</dc:title>
</cp:coreProperties>
</file>